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CD8-30A4-4BF0-ABDB-54AFDAEC4D74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5EE-F699-44CF-A1CE-E8276116660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F5C6-3BC2-4696-B49F-B04052AC2C4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53D Interoperability Solutions in Earth Science Data Systems: 1:55-2:10 pm What if Finding Data was as Easy as Subscribing to the N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B28-98D1-4171-A9A4-E707621E7AD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-28800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3880" indent="-23976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60120" indent="-191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343880" indent="-191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728000" indent="-191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728000" indent="-191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-3016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760" indent="-2512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5840" indent="-200880"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07960" indent="-200880">
              <a:buClr>
                <a:srgbClr val="606060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10440" indent="-200880">
              <a:buClr>
                <a:srgbClr val="60606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10440" indent="-2008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-478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103680" indent="-3996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159840" indent="-31680">
              <a:buClr>
                <a:srgbClr val="999999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223920" indent="-31680">
              <a:buClr>
                <a:srgbClr val="999999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288000" indent="-31680">
              <a:buClr>
                <a:srgbClr val="999999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288000" indent="-3168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37880" y="299880"/>
            <a:ext cx="73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dvertising your data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-1130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245160" indent="-9432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376920" indent="-75240">
              <a:buClr>
                <a:srgbClr val="727272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527760" indent="-75240">
              <a:buClr>
                <a:srgbClr val="727272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678600" indent="-75240">
              <a:buClr>
                <a:srgbClr val="727272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678600" indent="-75240"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dvertising your data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919476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lecia Aleman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1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, Ruth Duerr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</a:rPr>
              <a:t>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1 National Aeronautics and Space Administration (NASA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2 National Snow and Ice Data Center, University of Colorado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58720" y="5335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to cast your data collec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06440" y="3124080"/>
            <a:ext cx="6324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Fill out a web form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Save it to your web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743040" indent="-743040">
              <a:buClr>
                <a:srgbClr val="000000"/>
              </a:buClr>
              <a:buFont typeface="Helvetica Neue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Light"/>
              </a:rPr>
              <a:t>Add it's link to your si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11" descr=""/>
          <p:cNvPicPr/>
          <p:nvPr/>
        </p:nvPicPr>
        <p:blipFill>
          <a:blip r:embed="rId1"/>
          <a:stretch/>
        </p:blipFill>
        <p:spPr>
          <a:xfrm>
            <a:off x="6654960" y="2666880"/>
            <a:ext cx="5949720" cy="59324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7"/>
          <p:cNvSpPr/>
          <p:nvPr/>
        </p:nvSpPr>
        <p:spPr>
          <a:xfrm>
            <a:off x="1063440" y="8634240"/>
            <a:ext cx="10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http://nsidc.org/libre/share/collectioncaster.htm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ederal Geographic Data Committee (FGDC). Geospatial Metadata. http://www.fgdc.gov/metadata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2010. “Directory Interchange Format (DIF) Writer's Guide”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Global Change Master Directory. http://gcmd.nasa.gov/User/difguide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Global Change Master Directory (GCMD). http://gcmd.nasa.gov/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National Aeronautics and Space Administration (NASA). docBUILDER: http://gcmd.nasa.gov/User/authoring.htm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aylor, Mark. 2000. “Developing Spatial Data Infrastructures – The SDI Cookbook”. Global Spatial Data Infrastructure Association. http://www.gsdi.org/pubs/cookbook/chapter03a.html.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hree Discovery Scenario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You’ve deposited your data in an archiv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dvertising your data is their problem (mostly)!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in a directory or regist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dvertising your data on the web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4680" y="6091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34680" y="236232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data set description (metadata) that provides the essential information to determine if a particular data set meets the users’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veys to the user the nature and content of the data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ntains a set of quantitative and/or qualitative measurements and distinguishes that set from other similar measurement sets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scovery level metadata will usually contain less information than other types of metadata (i.e. use metadata, granule metadata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controlled keyword vocabulary is essential to provide normalized discovery of data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ategori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500040" y="2279520"/>
            <a:ext cx="119728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Examples of Discovery Level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0" y="2361960"/>
            <a:ext cx="6006960" cy="57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Directory Interchange Format (DIF)</a:t>
            </a: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rcRect l="36351" t="0" r="27460" b="2477"/>
          <a:stretch/>
        </p:blipFill>
        <p:spPr>
          <a:xfrm>
            <a:off x="635040" y="2895480"/>
            <a:ext cx="533412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2" name="Picture 3" descr=""/>
          <p:cNvPicPr/>
          <p:nvPr/>
        </p:nvPicPr>
        <p:blipFill>
          <a:blip r:embed="rId2"/>
          <a:srcRect l="36351" t="5551" r="27460" b="2477"/>
          <a:stretch/>
        </p:blipFill>
        <p:spPr>
          <a:xfrm>
            <a:off x="6883560" y="2895480"/>
            <a:ext cx="5333760" cy="647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3" name="Content Placeholder 2"/>
          <p:cNvSpPr/>
          <p:nvPr/>
        </p:nvSpPr>
        <p:spPr>
          <a:xfrm>
            <a:off x="6591240" y="2362320"/>
            <a:ext cx="600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6060"/>
                </a:solidFill>
                <a:latin typeface="Helvetica Neue"/>
              </a:rPr>
              <a:t>Federal Geographic Data Committe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lobal Change Master Directory (GCMD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enables the scientific community to discover and access over 25,000 Earth science data sets and servic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GCMD uses the Directory Interchange Format (DIF), a  discovery level metadata standard that is used by NASA and the Committee on Earth Observation Satellites (CEOS)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DIF contains several fields, allowing users to easily find and determine the data set and/or service that is useful to their need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docBUILDER is a free, online tool for creating, updating, and publishing metadata entries to the GCMD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rovides a “visual” check-list of required, highly recommended, and recommended fields to populate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Performs validation (checks controlled fields and syntax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Arial"/>
                <a:ea typeface="Arial"/>
              </a:rPr>
              <a:t>Allows for templates when creating entries with repeatable information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register for an account at https://users.eosdis.nasa.gov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Users can access docBUILDER 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ttp://gcmd.nasa.gov/User/authoring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960" y="58428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Using docBUILD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rcRect l="9691" t="23962" r="11420" b="24427"/>
          <a:stretch/>
        </p:blipFill>
        <p:spPr>
          <a:xfrm>
            <a:off x="2387520" y="3505320"/>
            <a:ext cx="9296640" cy="5410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0" name="TextBox 5"/>
          <p:cNvSpPr/>
          <p:nvPr/>
        </p:nvSpPr>
        <p:spPr>
          <a:xfrm>
            <a:off x="330120" y="43434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Field is checked when complete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TextBox 6"/>
          <p:cNvSpPr/>
          <p:nvPr/>
        </p:nvSpPr>
        <p:spPr>
          <a:xfrm>
            <a:off x="360684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Validate Your 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nd/or Get Help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TextBox 7"/>
          <p:cNvSpPr/>
          <p:nvPr/>
        </p:nvSpPr>
        <p:spPr>
          <a:xfrm>
            <a:off x="9931320" y="2133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Submit Your Document 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to the GCM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4978440" y="9220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 Light"/>
              </a:rPr>
              <a:t>Populate Metadata Field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764" name="Group 12"/>
          <p:cNvGrpSpPr/>
          <p:nvPr/>
        </p:nvGrpSpPr>
        <p:grpSpPr>
          <a:xfrm>
            <a:off x="2463840" y="7696080"/>
            <a:ext cx="8305920" cy="1447920"/>
            <a:chOff x="2463840" y="7696080"/>
            <a:chExt cx="8305920" cy="1447920"/>
          </a:xfrm>
        </p:grpSpPr>
        <p:sp>
          <p:nvSpPr>
            <p:cNvPr id="765" name="Right Brace 13"/>
            <p:cNvSpPr/>
            <p:nvPr/>
          </p:nvSpPr>
          <p:spPr>
            <a:xfrm rot="5400000">
              <a:off x="6235560" y="3924000"/>
              <a:ext cx="762120" cy="830592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24840 h 8305920"/>
                <a:gd name="textAreaBottom" fmla="*/ 828108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"/>
                    <a:pt x="10800" y="207"/>
                  </a:cubicBezTo>
                  <a:lnTo>
                    <a:pt x="10800" y="10500"/>
                  </a:lnTo>
                  <a:cubicBezTo>
                    <a:pt x="10800" y="10604"/>
                    <a:pt x="16200" y="10707"/>
                    <a:pt x="21600" y="10707"/>
                  </a:cubicBezTo>
                  <a:cubicBezTo>
                    <a:pt x="16200" y="10707"/>
                    <a:pt x="10800" y="10811"/>
                    <a:pt x="10800" y="10914"/>
                  </a:cubicBezTo>
                  <a:lnTo>
                    <a:pt x="10800" y="21393"/>
                  </a:lnTo>
                  <a:cubicBezTo>
                    <a:pt x="10800" y="21497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66" name="Straight Connector 14"/>
            <p:cNvSpPr/>
            <p:nvPr/>
          </p:nvSpPr>
          <p:spPr>
            <a:xfrm>
              <a:off x="6664320" y="83818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cxnSp>
        <p:nvCxnSpPr>
          <p:cNvPr id="767" name="Straight Arrow Connector 16"/>
          <p:cNvCxnSpPr/>
          <p:nvPr/>
        </p:nvCxnSpPr>
        <p:spPr>
          <a:xfrm flipV="1">
            <a:off x="1625760" y="4494960"/>
            <a:ext cx="76248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30"/>
          <p:cNvCxnSpPr/>
          <p:nvPr/>
        </p:nvCxnSpPr>
        <p:spPr>
          <a:xfrm flipH="1">
            <a:off x="4063320" y="2971440"/>
            <a:ext cx="61020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33"/>
          <p:cNvCxnSpPr/>
          <p:nvPr/>
        </p:nvCxnSpPr>
        <p:spPr>
          <a:xfrm flipH="1">
            <a:off x="10769040" y="3047760"/>
            <a:ext cx="229320" cy="533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Publishing metadata to the web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35040" y="2362320"/>
            <a:ext cx="120268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grpSp>
        <p:nvGrpSpPr>
          <p:cNvPr id="772" name="Group 17"/>
          <p:cNvGrpSpPr/>
          <p:nvPr/>
        </p:nvGrpSpPr>
        <p:grpSpPr>
          <a:xfrm>
            <a:off x="1409760" y="2451240"/>
            <a:ext cx="10085400" cy="6718320"/>
            <a:chOff x="1409760" y="2451240"/>
            <a:chExt cx="10085400" cy="6718320"/>
          </a:xfrm>
        </p:grpSpPr>
        <p:pic>
          <p:nvPicPr>
            <p:cNvPr id="773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2451240"/>
              <a:ext cx="10085400" cy="67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12"/>
            <p:cNvSpPr/>
            <p:nvPr/>
          </p:nvSpPr>
          <p:spPr>
            <a:xfrm>
              <a:off x="5877000" y="7093080"/>
              <a:ext cx="1150920" cy="139680"/>
            </a:xfrm>
            <a:prstGeom prst="rect">
              <a:avLst/>
            </a:prstGeom>
            <a:solidFill>
              <a:srgbClr val="133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myData News.org</a:t>
              </a:r>
              <a:endParaRPr b="0" lang="en-US" sz="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6058080" y="7283520"/>
              <a:ext cx="4821120" cy="88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6058080" y="7308720"/>
              <a:ext cx="4902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1 km DEM has been publish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"/>
                  <a:ea typeface="Arial"/>
                </a:rPr>
                <a:t>A Digital Elevation Model (DEM) of Greenland acquired by A. Researcher is available in binary format at a 1 KM grid spacing in a polar stereographic projection ... </a:t>
              </a: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more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Data updated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  <a:ea typeface="Arial"/>
                </a:rPr>
                <a:t>Greenland Ice Sheet Melt Characteristics now available via OpenSearch API</a:t>
              </a:r>
              <a:endParaRPr b="0" lang="en-US" sz="1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pic>
        <p:nvPicPr>
          <p:cNvPr id="777" name="Picture 16" descr=""/>
          <p:cNvPicPr/>
          <p:nvPr/>
        </p:nvPicPr>
        <p:blipFill>
          <a:blip r:embed="rId2"/>
          <a:srcRect l="1315" t="0" r="1315" b="0"/>
          <a:stretch/>
        </p:blipFill>
        <p:spPr>
          <a:xfrm>
            <a:off x="203040" y="3759120"/>
            <a:ext cx="10401480" cy="2552760"/>
          </a:xfrm>
          <a:prstGeom prst="rect">
            <a:avLst/>
          </a:prstGeom>
          <a:ln w="0">
            <a:noFill/>
          </a:ln>
          <a:effectLst>
            <a:outerShdw dist="127080" dir="540000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1:31Z</dcterms:created>
  <dc:creator>Stevens, Tyler B. (GSFC-610.2)[Affiliate]</dc:creator>
  <dc:description/>
  <dc:language>en-US</dc:language>
  <cp:lastModifiedBy>Ruth Duerr</cp:lastModifiedBy>
  <dcterms:modified xsi:type="dcterms:W3CDTF">2011-12-04T00:41:48Z</dcterms:modified>
  <cp:revision>86</cp:revision>
  <dc:subject/>
  <dc:title>ESIP Federation 101</dc:title>
</cp:coreProperties>
</file>